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3FA-20F5-479C-8772-8EC6B0A0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336-E0D4-4F82-B0FF-F53872C1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DA3-03ED-4444-A5EA-D2B08E08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784-688C-4C69-BD96-2E608DBB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47B4F-95BD-49BD-B5CC-06716D32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B55F7-E9C4-4C23-95F1-B5983AA1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18FD6-9CE0-4443-A5DB-87F5769E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2B1ED-D495-408A-B0F5-CA1150B3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845E7-AAD9-4DC6-B607-1BA5FBDF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0475E-8513-4161-8E5A-6C083D79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AA735-1371-46A4-9CA4-A0150F86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753-B3E3-4F37-96E1-34A78AF5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9A590-CAA6-4A10-B0BE-E22C820C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A3BEC-E674-41B3-9A11-82A0358E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9BF9F-EBA0-4ADC-AE51-B75734B6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288C1-34C7-49FD-8C0E-7256D4CD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89077-5275-45BF-9C22-EB71188D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8D7-5F9A-468E-B489-73051575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AF5-7276-4FA6-8055-41A66366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ED5-41F4-4846-9BB1-20949CDC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FD5-9F1B-4095-9E51-0D7C6178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AA2F-B0BA-4DF3-A285-3F8ADAF4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8D7-E785-4F36-8576-01D726F1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323-12BD-4219-9304-FED3E025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CFCF-7C43-4DDB-B889-6B385EAC06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3954-A537-4E2D-9C05-DF477E72D0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Script MT Bold"/>
              </a:rPr>
              <a:t>            </a:t>
            </a:r>
            <a:r>
              <a:rPr b="0" lang="en-US" sz="6000" spc="-1" strike="noStrike">
                <a:solidFill>
                  <a:srgbClr val="ffffff"/>
                </a:solidFill>
                <a:latin typeface="Script MT Bold"/>
              </a:rPr>
              <a:t>Vocabulary</a:t>
            </a:r>
            <a:r>
              <a:rPr b="0" lang="en-US" sz="6000" spc="-1" strike="noStrike">
                <a:solidFill>
                  <a:srgbClr val="ffffff"/>
                </a:solidFill>
                <a:latin typeface="Script MT Bold"/>
              </a:rPr>
              <a:t>	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Electronic Mail Which allows individuals with an account to send messages to another person with e-mail accou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IR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Internet relay chat was developed in 1988 by Jarkko Oikarinen and allows instant online communicating with someone else who is also online by typing messages back and for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B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Bulletin board service allows a user to participate in a discussion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F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File transfer protocol is used to rapidly transfer fi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Hypertext transfer protocol is used for handling the transmission of pages between a web server and a web brows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                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el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program used on networks suck as the internet to allow users to Remotely log on to a server on the net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network security system that prevents unauthorized network ac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Goph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One of the first widespread internet browsing serv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Intra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network used by a single organization and only accessible by authorized us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00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04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08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112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7 L 0.075 0.06526 C 0.08 0.07325 0.088 0.07724 0.098 0.07724 C 0.112 0.07724 0.124 0.06659 0.125 0.05061 C 0.124 0.03729 0.112 0.0253 0.098 0.0253 C 0.088 0.0253 0.08 0.03063 0.075 0.03729 L 0.052 0.07458 C 0.042 0.09056 0.023 0.10122 0 0.10255 C -0.023 0.10122 -0.042 0.09056 -0.052 0.07458 L -0.075 0.03729 C -0.08 0.03063 -0.088 0.0253 -0.098 0.0253 C -0.112 0.0253 -0.124 0.03729 -0.125 0.05061 C -0.124 0.06659 -0.112 0.07724 -0.098 0.07724 C -0.088 0.07724 -0.08 0.07325 -0.075 0.06526 L -0.052 0.02797 C -0.042 0.01199 -0.023 0.00133 0 0 Z">
                                      <p:cBhvr>
                                        <p:cTn id="116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7 L 0.075 0.06526 C 0.08 0.07325 0.088 0.07724 0.098 0.07724 C 0.112 0.07724 0.124 0.06659 0.125 0.05061 C 0.124 0.03729 0.112 0.0253 0.098 0.0253 C 0.088 0.0253 0.08 0.03063 0.075 0.03729 L 0.052 0.07458 C 0.042 0.09056 0.023 0.10122 0 0.10255 C -0.023 0.10122 -0.042 0.09056 -0.052 0.07458 L -0.075 0.03729 C -0.08 0.03063 -0.088 0.0253 -0.098 0.0253 C -0.112 0.0253 -0.124 0.03729 -0.125 0.05061 C -0.124 0.06659 -0.112 0.07724 -0.098 0.07724 C -0.088 0.07724 -0.08 0.07325 -0.075 0.06526 L -0.052 0.02797 C -0.042 0.01199 -0.023 0.00133 0 0 Z">
                                      <p:cBhvr>
                                        <p:cTn id="120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7 L 0.075 0.06526 C 0.08 0.07325 0.088 0.07724 0.098 0.07724 C 0.112 0.07724 0.124 0.06659 0.125 0.05061 C 0.124 0.03729 0.112 0.0253 0.098 0.0253 C 0.088 0.0253 0.08 0.03063 0.075 0.03729 L 0.052 0.07458 C 0.042 0.09056 0.023 0.10122 0 0.10255 C -0.023 0.10122 -0.042 0.09056 -0.052 0.07458 L -0.075 0.03729 C -0.08 0.03063 -0.088 0.0253 -0.098 0.0253 C -0.112 0.0253 -0.124 0.03729 -0.125 0.05061 C -0.124 0.06659 -0.112 0.07724 -0.098 0.07724 C -0.088 0.07724 -0.08 0.07325 -0.075 0.06526 L -0.052 0.02797 C -0.042 0.01199 -0.023 0.00133 0 0 Z">
                                      <p:cBhvr>
                                        <p:cTn id="124" dur="2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2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 0.00133 0.042 0.01199 0.052 0.02797 L 0.075 0.06526 C 0.08 0.07325 0.088 0.07724 0.098 0.07724 C 0.112 0.07724 0.124 0.06659 0.125 0.05061 C 0.124 0.03729 0.112 0.0253 0.098 0.0253 C 0.088 0.0253 0.08 0.03063 0.075 0.03729 L 0.052 0.07458 C 0.042 0.09056 0.023 0.10122 0 0.10255 C -0.023 0.10122 -0.042 0.09056 -0.052 0.07458 L -0.075 0.03729 C -0.08 0.03063 -0.088 0.0253 -0.098 0.0253 C -0.112 0.0253 -0.124 0.03729 -0.125 0.05061 C -0.124 0.06659 -0.112 0.07724 -0.098 0.07724 C -0.088 0.07724 -0.08 0.07325 -0.075 0.06526 L -0.052 0.02797 C -0.042 0.01199 -0.023 0.00133 0 0 Z">
                                      <p:cBhvr>
                                        <p:cTn id="128" dur="2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             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Extra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n extended intranet that provides various level of access to authorized member of the publ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Online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marketing technique that collects online data about consum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Cook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Small files that contain information about the web sites an individual has visi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Use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collection of servers that offer netnew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              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Bandwid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he amount of data and the speed at which the data can travel over the transmission med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computer that accesses a server t request inform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DS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Digital subscriber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Ether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widely used protocol for Lans that uses a bus or star topology and connects the network devices by twisted- pair wiring coaxial cable or fiber optic c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                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Netiquet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he etiquette that should be followed when using a net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Protoc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stand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op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The logical arrangement of the nodes on a net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Wireless Netwo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type of network that does not require the use of cables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               </a:t>
            </a:r>
            <a:r>
              <a:rPr b="0" lang="en-US" sz="5400" spc="-1" strike="noStrike">
                <a:solidFill>
                  <a:srgbClr val="ffffff"/>
                </a:solidFill>
                <a:latin typeface="Script MT Bold"/>
              </a:rPr>
              <a:t>Continu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Network interface c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IS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Web S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circuit board that goes into the base unit of a computer or other device in a l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Internet service provider is a company that offers access to the internet for a fe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cript MT Bold"/>
              </a:rPr>
              <a:t>A series of related web p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5:30:47Z</dcterms:created>
  <dc:creator>759670</dc:creator>
  <dc:description/>
  <dc:language>en-US</dc:language>
  <cp:lastModifiedBy>759670</cp:lastModifiedBy>
  <dcterms:modified xsi:type="dcterms:W3CDTF">2009-04-20T15:44:52Z</dcterms:modified>
  <cp:revision>3</cp:revision>
  <dc:subject/>
  <dc:title>            Vocabular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